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C91-E2F4-47E8-8FEF-AFC7C559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A6F-2C00-4A68-AE8A-44DC656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8E0-B7BF-4683-8422-E4D47AC4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48D-ACF1-4B34-8F1D-6373B3D1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B01-5835-4323-B9D5-4AE8004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B2D-FA50-4DC9-9027-05E334F2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88A-C078-4C19-BAA6-E70E096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996-FC0B-4D39-8686-D780520D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9D1-71C3-46C1-900A-325E068B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6B4-5FAE-4DE4-958E-80043DB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77F-7FBE-447A-98D8-337F3FE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18D-61D6-4EFE-983B-31CCD44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064-13A1-49DF-B890-F8DC9014C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painandwellnes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dovascular Thoracic Aortic Repai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hn Rei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y`s &amp; St Thomas`Hospi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don U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racic Aortic aneurysms.Traumatic Transections (Rup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rupture and death. May be incidental finding or may rup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high comorb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Morbidity and Mortality (10-25%) of conventional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AA endovascular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antages of Endovascul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general ana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horacotomy or by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tensive c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r recovery/Hospital st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iameter stentgrafts now availabl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45mm diameter – self-expanding stents covered with Dacron/PT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d under radiological control via small groin incision (8-9mm tub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/MR imaging important for planning/follow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r Study -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 consecutive patients (1997-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&gt;F mean 67y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-risk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early devices not considered equipoise so no RCTs except for aortic dis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and devices have evolved and continue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r Study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mortality (&lt;30 days) –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plegia 7/190. 3.8% (cf.surgery) only 2 perman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ke – 3.8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mortality 8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follow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leak – may not be 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reat with secondary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few cases may need open surgery – no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2743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d/Better de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need for detailed im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2485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painandwellness.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296280" y="1981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5:27:27Z</dcterms:created>
  <dc:creator>Steven Shnitzler</dc:creator>
  <dc:description/>
  <dc:language>en-US</dc:language>
  <cp:lastModifiedBy>AVHQ</cp:lastModifiedBy>
  <cp:lastPrinted>2004-03-20T20:37:16Z</cp:lastPrinted>
  <dcterms:modified xsi:type="dcterms:W3CDTF">2007-03-02T17:52:27Z</dcterms:modified>
  <cp:revision>257</cp:revision>
  <dc:subject/>
  <dc:title>Marketing Your Freestanding IR Practice?</dc:title>
</cp:coreProperties>
</file>