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pct" ContentType="image/x-pict"/>
  <Override PartName="/ppt/media/image21.png" ContentType="image/png"/>
  <Override PartName="/ppt/media/image19.jpeg" ContentType="image/jpeg"/>
  <Override PartName="/ppt/media/image18.jpeg" ContentType="image/jpeg"/>
  <Override PartName="/ppt/media/image4.pct" ContentType="image/x-pict"/>
  <Override PartName="/ppt/media/image17.jpeg" ContentType="image/jpe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E888-B24F-4FDF-A517-103217F9D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treatable: got to IR for thrombolysis (clot bu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C83-AE29-48A2-8368-B63F52E1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2F8-6298-4374-8D28-E4A7574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A54-7B79-4AE2-8D17-4D1E2FF2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F4C-CA05-4657-A6C6-6EE1C194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A92-FB75-40AA-A28C-9833500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19B-31E7-4083-BAEF-3BDD8EBB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AD0-E860-480C-B2F5-E8AD1F9A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713-05CE-4832-BC7E-BC75C285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FA5-395C-4EDC-A7B5-38580EA6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180-1B8D-442F-8727-8B61AE9E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BAD-7C1C-4015-A572-A24B03F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3F7-8AE6-4329-A7FB-CB69B15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1705"/>
            </a:gs>
            <a:gs pos="100000">
              <a:srgbClr val="730a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0F47-65A1-46E3-ACFD-7A10AF87A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aging at the Heart of Strok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66720" y="3504960"/>
            <a:ext cx="4419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66"/>
                </a:solidFill>
                <a:latin typeface="Arial"/>
              </a:rPr>
              <a:t>John Sheehan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Arial"/>
              </a:rPr>
              <a:t>Northwestern Radi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Arial"/>
              </a:rPr>
              <a:t>Northwestern Memorial Hospital</a:t>
            </a:r>
            <a:r>
              <a:rPr b="0" i="1" lang="en-US" sz="2400" spc="-1" strike="noStrike">
                <a:solidFill>
                  <a:srgbClr val="66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2819520" cy="374328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is a big deal becaus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(Heart) M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Re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Increasing avai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Not mentioned in the guidelines of how to work up patients with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1904760" cy="16747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7" name="Macintosh HD:Users:johnsheehan999:Documents:My Work:Radiology:USA:Chicago:Research:VINCE:1421 SCHUMANN HCM:4Ch tufi.avi" descr=""/>
          <p:cNvPicPr/>
          <p:nvPr/>
        </p:nvPicPr>
        <p:blipFill>
          <a:blip r:embed="rId4"/>
          <a:stretch/>
        </p:blipFill>
        <p:spPr>
          <a:xfrm>
            <a:off x="6248520" y="3886200"/>
            <a:ext cx="1904760" cy="14382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66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his means to pati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,000 cardioembolic strokes pa in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heart with  MRI and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Increased detection of thrombi and vege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Improved treatment of the c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Avoid unnecessary anticoagulation if not t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tection of the cause of the thrombi fo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ary prevention of subsequent stro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Patient has a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dmitted to the 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CT Brain to diagnose stroke and out rule a hemorrh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1357200" cy="173376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048120" y="4038480"/>
            <a:ext cx="1525320" cy="17258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029200" y="4038480"/>
            <a:ext cx="1600200" cy="17208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cardiogram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valve vegetations, P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cardia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Brain ve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Atherosclerot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carot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laque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48520" y="2438280"/>
            <a:ext cx="1434960" cy="27115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cardiogram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valve vegetations, P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cardia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Brain ve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Atherosclerot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carot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laque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46" name="Macintosh HD:Users:johnsheehan999:Documents:My Work:Radiology:USA:Chicago:Research:VINCE:1421 SCHUMANN HCM:4Ch tufi.avi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2438280" cy="18414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66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cardiogram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valve vegetations, P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cardia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Brain ve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Atherosclerot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carot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laque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286000" cy="22860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cardiogram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valve vegetations, P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cardia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Brain ve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Atherosclerot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carot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laque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486400" y="2209680"/>
            <a:ext cx="2828880" cy="28288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earch 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I found 9 thrombi in 9.7% of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ECHO +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n=2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(2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99"/>
              </a:spcBef>
              <a:buClr>
                <a:srgbClr val="6666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ECHO +/-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n=2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(2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99"/>
              </a:spcBef>
              <a:buClr>
                <a:srgbClr val="6666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ECHO -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n=5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(56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RI                    ECH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648320" y="2133720"/>
            <a:ext cx="3733560" cy="346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9480" y="2133720"/>
            <a:ext cx="3733920" cy="34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990720" y="47242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ft Ventricular Thrombus and Infar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952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895480" y="3429000"/>
            <a:ext cx="304920" cy="53352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2286000"/>
            <a:ext cx="380880" cy="60948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 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ECHO found 3 vegetations on valves  in (3% of patie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MRI did not detect any vege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research shows that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MRI detects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Clots in the heart that cause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More heart conditions that cause the clots to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ocardiography detects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Lesions on heart valves that cause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sthetic Mitral Val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514600" y="1817640"/>
            <a:ext cx="3728880" cy="4154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90" name=""/>
          <p:cNvSpPr/>
          <p:nvPr/>
        </p:nvSpPr>
        <p:spPr>
          <a:xfrm flipH="1">
            <a:off x="5257440" y="3809880"/>
            <a:ext cx="685800" cy="18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5181480"/>
            <a:ext cx="301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lic Susceptibility  Artif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3505320"/>
            <a:ext cx="590400" cy="637920"/>
          </a:xfrm>
          <a:custGeom>
            <a:avLst/>
            <a:gdLst/>
            <a:ahLst/>
            <a:rect l="l" t="t" r="r" b="b"/>
            <a:pathLst>
              <a:path w="440" h="514">
                <a:moveTo>
                  <a:pt x="306" y="8"/>
                </a:moveTo>
                <a:cubicBezTo>
                  <a:pt x="309" y="19"/>
                  <a:pt x="310" y="23"/>
                  <a:pt x="320" y="30"/>
                </a:cubicBezTo>
                <a:cubicBezTo>
                  <a:pt x="322" y="36"/>
                  <a:pt x="324" y="42"/>
                  <a:pt x="326" y="48"/>
                </a:cubicBezTo>
                <a:cubicBezTo>
                  <a:pt x="327" y="52"/>
                  <a:pt x="330" y="60"/>
                  <a:pt x="330" y="60"/>
                </a:cubicBezTo>
                <a:cubicBezTo>
                  <a:pt x="332" y="77"/>
                  <a:pt x="330" y="94"/>
                  <a:pt x="334" y="112"/>
                </a:cubicBezTo>
                <a:cubicBezTo>
                  <a:pt x="334" y="114"/>
                  <a:pt x="359" y="124"/>
                  <a:pt x="370" y="128"/>
                </a:cubicBezTo>
                <a:cubicBezTo>
                  <a:pt x="378" y="136"/>
                  <a:pt x="375" y="131"/>
                  <a:pt x="380" y="146"/>
                </a:cubicBezTo>
                <a:cubicBezTo>
                  <a:pt x="380" y="148"/>
                  <a:pt x="382" y="152"/>
                  <a:pt x="382" y="152"/>
                </a:cubicBezTo>
                <a:cubicBezTo>
                  <a:pt x="380" y="171"/>
                  <a:pt x="382" y="194"/>
                  <a:pt x="370" y="210"/>
                </a:cubicBezTo>
                <a:cubicBezTo>
                  <a:pt x="345" y="240"/>
                  <a:pt x="370" y="209"/>
                  <a:pt x="360" y="228"/>
                </a:cubicBezTo>
                <a:cubicBezTo>
                  <a:pt x="357" y="232"/>
                  <a:pt x="352" y="240"/>
                  <a:pt x="352" y="240"/>
                </a:cubicBezTo>
                <a:cubicBezTo>
                  <a:pt x="366" y="249"/>
                  <a:pt x="376" y="248"/>
                  <a:pt x="394" y="250"/>
                </a:cubicBezTo>
                <a:cubicBezTo>
                  <a:pt x="413" y="256"/>
                  <a:pt x="433" y="280"/>
                  <a:pt x="440" y="300"/>
                </a:cubicBezTo>
                <a:cubicBezTo>
                  <a:pt x="437" y="333"/>
                  <a:pt x="437" y="356"/>
                  <a:pt x="400" y="364"/>
                </a:cubicBezTo>
                <a:cubicBezTo>
                  <a:pt x="396" y="373"/>
                  <a:pt x="397" y="384"/>
                  <a:pt x="408" y="388"/>
                </a:cubicBezTo>
                <a:cubicBezTo>
                  <a:pt x="405" y="396"/>
                  <a:pt x="400" y="393"/>
                  <a:pt x="396" y="402"/>
                </a:cubicBezTo>
                <a:cubicBezTo>
                  <a:pt x="387" y="418"/>
                  <a:pt x="379" y="436"/>
                  <a:pt x="366" y="450"/>
                </a:cubicBezTo>
                <a:cubicBezTo>
                  <a:pt x="362" y="460"/>
                  <a:pt x="356" y="465"/>
                  <a:pt x="350" y="474"/>
                </a:cubicBezTo>
                <a:cubicBezTo>
                  <a:pt x="326" y="504"/>
                  <a:pt x="324" y="498"/>
                  <a:pt x="284" y="504"/>
                </a:cubicBezTo>
                <a:cubicBezTo>
                  <a:pt x="277" y="504"/>
                  <a:pt x="255" y="508"/>
                  <a:pt x="252" y="510"/>
                </a:cubicBezTo>
                <a:cubicBezTo>
                  <a:pt x="248" y="511"/>
                  <a:pt x="240" y="514"/>
                  <a:pt x="240" y="514"/>
                </a:cubicBezTo>
                <a:cubicBezTo>
                  <a:pt x="198" y="512"/>
                  <a:pt x="187" y="514"/>
                  <a:pt x="156" y="504"/>
                </a:cubicBezTo>
                <a:cubicBezTo>
                  <a:pt x="146" y="489"/>
                  <a:pt x="85" y="483"/>
                  <a:pt x="66" y="482"/>
                </a:cubicBezTo>
                <a:cubicBezTo>
                  <a:pt x="53" y="477"/>
                  <a:pt x="42" y="474"/>
                  <a:pt x="30" y="472"/>
                </a:cubicBezTo>
                <a:cubicBezTo>
                  <a:pt x="18" y="464"/>
                  <a:pt x="17" y="463"/>
                  <a:pt x="12" y="452"/>
                </a:cubicBezTo>
                <a:cubicBezTo>
                  <a:pt x="10" y="448"/>
                  <a:pt x="8" y="440"/>
                  <a:pt x="8" y="440"/>
                </a:cubicBezTo>
                <a:cubicBezTo>
                  <a:pt x="9" y="402"/>
                  <a:pt x="11" y="377"/>
                  <a:pt x="0" y="344"/>
                </a:cubicBezTo>
                <a:cubicBezTo>
                  <a:pt x="9" y="286"/>
                  <a:pt x="74" y="307"/>
                  <a:pt x="122" y="306"/>
                </a:cubicBezTo>
                <a:cubicBezTo>
                  <a:pt x="131" y="305"/>
                  <a:pt x="140" y="305"/>
                  <a:pt x="150" y="304"/>
                </a:cubicBezTo>
                <a:cubicBezTo>
                  <a:pt x="156" y="302"/>
                  <a:pt x="160" y="288"/>
                  <a:pt x="160" y="288"/>
                </a:cubicBezTo>
                <a:cubicBezTo>
                  <a:pt x="158" y="270"/>
                  <a:pt x="165" y="258"/>
                  <a:pt x="152" y="250"/>
                </a:cubicBezTo>
                <a:cubicBezTo>
                  <a:pt x="141" y="243"/>
                  <a:pt x="125" y="242"/>
                  <a:pt x="114" y="238"/>
                </a:cubicBezTo>
                <a:cubicBezTo>
                  <a:pt x="106" y="235"/>
                  <a:pt x="94" y="226"/>
                  <a:pt x="94" y="226"/>
                </a:cubicBezTo>
                <a:cubicBezTo>
                  <a:pt x="83" y="210"/>
                  <a:pt x="80" y="183"/>
                  <a:pt x="66" y="174"/>
                </a:cubicBezTo>
                <a:cubicBezTo>
                  <a:pt x="66" y="166"/>
                  <a:pt x="65" y="157"/>
                  <a:pt x="68" y="150"/>
                </a:cubicBezTo>
                <a:cubicBezTo>
                  <a:pt x="68" y="147"/>
                  <a:pt x="72" y="147"/>
                  <a:pt x="74" y="146"/>
                </a:cubicBezTo>
                <a:cubicBezTo>
                  <a:pt x="81" y="136"/>
                  <a:pt x="86" y="117"/>
                  <a:pt x="98" y="114"/>
                </a:cubicBezTo>
                <a:cubicBezTo>
                  <a:pt x="121" y="116"/>
                  <a:pt x="119" y="117"/>
                  <a:pt x="124" y="136"/>
                </a:cubicBezTo>
                <a:cubicBezTo>
                  <a:pt x="126" y="127"/>
                  <a:pt x="126" y="123"/>
                  <a:pt x="134" y="118"/>
                </a:cubicBezTo>
                <a:cubicBezTo>
                  <a:pt x="141" y="120"/>
                  <a:pt x="148" y="123"/>
                  <a:pt x="158" y="118"/>
                </a:cubicBezTo>
                <a:cubicBezTo>
                  <a:pt x="161" y="115"/>
                  <a:pt x="162" y="106"/>
                  <a:pt x="162" y="106"/>
                </a:cubicBezTo>
                <a:cubicBezTo>
                  <a:pt x="160" y="86"/>
                  <a:pt x="154" y="70"/>
                  <a:pt x="148" y="52"/>
                </a:cubicBezTo>
                <a:cubicBezTo>
                  <a:pt x="150" y="30"/>
                  <a:pt x="151" y="30"/>
                  <a:pt x="170" y="26"/>
                </a:cubicBezTo>
                <a:cubicBezTo>
                  <a:pt x="190" y="12"/>
                  <a:pt x="210" y="8"/>
                  <a:pt x="234" y="4"/>
                </a:cubicBezTo>
                <a:cubicBezTo>
                  <a:pt x="240" y="4"/>
                  <a:pt x="313" y="0"/>
                  <a:pt x="306" y="8"/>
                </a:cubicBezTo>
                <a:close/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disease that causes clots in heart to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CV MR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n = 19  (20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ECHO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n = 7  (7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205" name="Macintosh HD:Users:johnsheehan999:Documents:My Work:Radiology:USA:Chicago:Research:CES:Presentations:SIR:0800-sheehan_210_sun:CLAUSEN MARK_rename.avi" descr=""/>
          <p:cNvPicPr/>
          <p:nvPr/>
        </p:nvPicPr>
        <p:blipFill>
          <a:blip r:embed="rId3"/>
          <a:stretch/>
        </p:blipFill>
        <p:spPr>
          <a:xfrm>
            <a:off x="-3454560" y="-1244520"/>
            <a:ext cx="16053120" cy="93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0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I detects more strokes that arise from the hea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Better treatment of the c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I detects the heart disease that cause theses strokes to form in the first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econdary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both techniques offer the best work up for stroke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990720" y="1219320"/>
            <a:ext cx="2241360" cy="382896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217" name="Macintosh HD:Users:johnsheehan999:Documents:My Work:Radiology:USA:Chicago:Research:VINCE:1421 SCHUMANN HCM:4Ch tufi.avi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429000" cy="258948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3429000" y="3276720"/>
            <a:ext cx="1447920" cy="457200"/>
          </a:xfrm>
          <a:prstGeom prst="leftArrow">
            <a:avLst>
              <a:gd name="adj1" fmla="val 50000"/>
              <a:gd name="adj2" fmla="val 79173"/>
            </a:avLst>
          </a:prstGeom>
          <a:solidFill>
            <a:srgbClr val="ffffff"/>
          </a:solidFill>
          <a:ln w="9360">
            <a:solidFill>
              <a:srgbClr val="969696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66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research shows that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MRI and Echocardiography of the he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Maximizes detection of what causes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llows secondary prevention of subsequent stro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is a big deal becaus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700,000 suffer a new or repeat stroke every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Someone suffers a stroke every 45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 patient dies of a stroke every 3.1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Leading cause of adult disabi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3rd leading cause of death; only heart disease and cancer cause more deaths ann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is a big deal becaus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embolic strok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occurs when a thrombus (clot) travels from the heart to the brain causing a str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account for 20% of embolic str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125,000 pa in 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angerous type of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La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Rec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end to bl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83" name="Macintosh HD:Users:johnsheehan999:Documents:My Work:Radiology:USA:Chicago:Research:VINCE:1421 SCHUMANN HCM:4Ch tufi.avi" descr=""/>
          <p:cNvPicPr/>
          <p:nvPr/>
        </p:nvPicPr>
        <p:blipFill>
          <a:blip r:embed="rId3"/>
          <a:stretch/>
        </p:blipFill>
        <p:spPr>
          <a:xfrm>
            <a:off x="5181480" y="685800"/>
            <a:ext cx="2743200" cy="25146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295280" y="685800"/>
            <a:ext cx="2711520" cy="25146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105520" y="4038480"/>
            <a:ext cx="2819160" cy="135576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295280" y="3657600"/>
            <a:ext cx="2743200" cy="25210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14600" y="709560"/>
            <a:ext cx="3429000" cy="2338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14600" y="3027240"/>
            <a:ext cx="34290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4280" y="2209680"/>
            <a:ext cx="2895840" cy="27655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990720" y="2286000"/>
            <a:ext cx="2476440" cy="266688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914400" y="1371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chemic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morrhagic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657600"/>
            <a:ext cx="76176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is a big deal becaus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ly diagnosed with Echocardiography (Ultrasoun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thoracic  ECH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echnically limi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esophageal 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mi-invasive and less utiliz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2635200" cy="12812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553080" y="3657600"/>
            <a:ext cx="951120" cy="17971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5:27:27Z</dcterms:created>
  <dc:creator>Steven Shnitzler</dc:creator>
  <dc:description/>
  <dc:language>en-US</dc:language>
  <cp:lastModifiedBy>Sheehan John</cp:lastModifiedBy>
  <cp:lastPrinted>2004-03-20T20:37:16Z</cp:lastPrinted>
  <dcterms:modified xsi:type="dcterms:W3CDTF">2007-03-05T17:48:43Z</dcterms:modified>
  <cp:revision>295</cp:revision>
  <dc:subject/>
  <dc:title>Marketing Your Freestanding IR Practice?</dc:title>
</cp:coreProperties>
</file>